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477-4294-4B0E-ACA8-5033AA35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1A2-509D-4282-ADE6-E06EED0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1FD-1547-4813-82BA-D6D96492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ECD-7712-4AEA-BAB0-8D172B55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904-E832-421E-AD95-DD0F07C8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86A-B593-4387-9710-241D8D1E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F2C-86A2-4EFC-9A07-8F3DC59E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5B0-B19F-449F-9C86-0FF830C8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E14-D3F3-4C96-B231-42D045BF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44C-EBB3-4C57-922D-110924D4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D24-13CC-466A-8A6B-9B11F6A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6B5-1FF1-4995-BA95-E287A5E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E012-6A41-4267-8795-3A32FBDBA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nogokomponentni hidrodinamički mode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Mnogokomponentni hidrodinamički mod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izičk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znatno realističnij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odeli kod plazme nego M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Zaš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U jednom takvom modelu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plazma se poistovećuje sa smešom fluida, i to tako da se svaka prisutna komponentna tretira kao poseban fluid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Čitav niz efekata se može uzeti u obzir, kao na pri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specifičnost interakcije između elektrona i teških čestica, uslovljenoj velikom razlikom u mas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mnogokomponentni model dozvoljava da se opišu posledice okolnosti da u jednoj istoj tački prostora pojedine komponente plazme mogu imati različite brzine, što može biti praćeno pojavom specifičnog unutrašnjeg trenja  (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koje treba razlikovati od 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viskoznosti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mogu se uzeti u obzir i pojave uslovljene činjenicom da pojedine komponente u istoj tački imaju različite temperature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Calibri"/>
              </a:rPr>
              <a:t>Osnovne jednačine za svaki mnogokomponentni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Hidrodinamičke jednačine, analogn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jednačinama u MHD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išu se za svaku komponentu plazme ponaoso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6"/>
          <p:cNvGraphicFramePr/>
          <p:nvPr/>
        </p:nvGraphicFramePr>
        <p:xfrm>
          <a:off x="704880" y="3164040"/>
          <a:ext cx="77328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3164040"/>
                    <a:ext cx="77328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aliza jednač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deks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značava komponentu plazme (vrstu čestica) o kojoj je re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jednačinama kontinuiteta za pojedine komponente desne strane nisu jednake nuli, za razliku od obične hidrodinamičke jednačine kontinuit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eličina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mbolizira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povećanje gustine te vrste čestica u jedinici vremena usled neelastičnih sudar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jer zbog njih se ove gustine mogu menj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jednačinama kretanja treba zapaziti dve izmene u odnosu na korespodentnu jednačinu u M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raz za Lorenc-ovu silu je drugačiji, jer je plazma elektroneutraln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amo kao celin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a svaka komponenta zasebno posmatrana ima izvesnu gustinu prostornog naelektrisanja različitu od n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astav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 jednačinama kretanja se pojavljuju dve nove zapreminske sile, označene simbolički s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va od njih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rikazuje silu trenja kojoj su izložene čestice posmatrane vrste usled toga što njihova srednja brzina kretanj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ije jednaka srednjim brzinama kretanja ostalih komponenata plazme. Drugim rečima, ovaj član predstavlj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uticaj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lastični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udara na promenu gustine impulsa čestica vrs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u jedinici vreme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rugi član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značava analognu promenu usled neelastičnih sudara, jer oni dovode ne samo do promene broja čestica određene vrste u plazmi, već i do promene njihove gustine impul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00"/>
                </a:solidFill>
                <a:uFillTx/>
                <a:latin typeface="Times New Roman"/>
              </a:rPr>
              <a:t>Konkretizacija veličin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r-Latn-C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nkretizacija veličin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akle izbor konkretnog mnogokomponentnog hidrodinamičkog modela, moguće je izvršti tek kad se poznaju svi elastični i neelastični procesi koji se odigravaju u posmatranoj plaz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koni konzervacije mase i impulsa zahtevaju da b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r se ukupna masa i ukupni impuls jedinice zapremine plazme ne menja pri sudar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 gustinu struje se uz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o da hidrodinamičke jednačine i Maksvel-ove jednačine obrazuju zatvoreni sistem jednač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kle, suprotno situaciji kod MHD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ije potrebno pretpostavit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lo kakav oblik Om-ovog zak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2362320" y="3124080"/>
          <a:ext cx="50511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124080"/>
                    <a:ext cx="5051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7"/>
          <p:cNvGraphicFramePr/>
          <p:nvPr/>
        </p:nvGraphicFramePr>
        <p:xfrm>
          <a:off x="4191120" y="4952880"/>
          <a:ext cx="13716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952880"/>
                    <a:ext cx="13716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zlika između MHD i nekog hidrodinamičkog mode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vođenjem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makroskopskih (globalnih) veličina za plazmu kao celinu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ogu se uočiti razlike između MHD i nekog hidrodinamičkog mod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ustina plazme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makroskopska brzina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ukupni pritisak p i efektivna zapreminska sila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su takve makroskopske veličine i mogu se uvesti rela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 svaku komponentu plazme možemo uvesti još i tzv.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ifuznu brz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oja očevidno predstavlja relativnu brzinu kretanja te komponente u sistemu reference koji se u odnosu na lab sistem reference kreće makroskopskom brzinom plaz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905120" y="3809880"/>
          <a:ext cx="59371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809880"/>
                    <a:ext cx="5937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429000" y="5029200"/>
          <a:ext cx="1897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029200"/>
                    <a:ext cx="189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lobalne jednač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beremo li sve jednačine kontinuiteta i sve jednačine kretanja, dobija se sledeći rezult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Zaključ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zmeđu jednokomponentnog i mnogokomponentnog modela postoji razlika u opisivanju kretanja plazme. Ta razlika je sadržana u poslednjim članovima leve i desne strane jednačine kretanja i uslovljena je postojanje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fuznih brzi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j. okolnošću da se različite komponente plazme kreću različitim brzinama u istoj tački prost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1608120" y="2362320"/>
          <a:ext cx="638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2362320"/>
                    <a:ext cx="638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zapazit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3505320" y="1981080"/>
          <a:ext cx="21668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981080"/>
                    <a:ext cx="2166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"/>
          <p:cNvGraphicFramePr/>
          <p:nvPr/>
        </p:nvGraphicFramePr>
        <p:xfrm>
          <a:off x="2819520" y="3048120"/>
          <a:ext cx="4600440" cy="76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3048120"/>
                    <a:ext cx="4600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9:03:19Z</dcterms:created>
  <dc:creator>Милан Ковачевић</dc:creator>
  <dc:description/>
  <dc:language>en-US</dc:language>
  <cp:lastModifiedBy>Milan Kovačević</cp:lastModifiedBy>
  <dcterms:modified xsi:type="dcterms:W3CDTF">2024-04-01T06:03:15Z</dcterms:modified>
  <cp:revision>113</cp:revision>
  <dc:subject/>
  <dc:title>Fizika plazme</dc:title>
</cp:coreProperties>
</file>