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C1D-7A5E-4C6D-B362-E72E014B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417-E92B-4C68-A108-4395E2DF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D01-1212-48AC-B28B-E430D4DF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0A5-ECAA-454E-87B4-42CC0D10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0E91-5D67-4B3C-9070-D0630C4D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383B-F0C7-49D7-A722-E90AE10E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EC22-E1D5-47EE-83FC-463494FE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6EEC-7ED2-4761-8C80-C694872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6A4D-204F-4C36-9EBD-B4A1B2D9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6100-B5D4-4212-91AF-B5473CA3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AFA3-E14E-4D95-8DA7-40589802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E1B-D14D-4AE6-BC82-D5C2B4D6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71D4-4D5E-4D3F-B631-279EA90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8FC0-7127-4179-B07C-8BB4355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9AFD-DC1A-4022-AEF2-3571DD02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B055-B218-4B01-B6BE-D3325D81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352B-BB73-42EF-82E0-41F3C5B0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BB7C-3F5F-4D3E-8FFC-7D887FE8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9C3A-EC1A-4548-AD52-D0A367C7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B9F1-468C-4F98-8FE2-206C2DC2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B005-CA91-4C55-9CD0-C2F2FD02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DAEA-0C87-48E5-98B5-D6CAEAF2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EF8-19E0-4E4A-8211-EA7B4A61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DF04A-13B3-401A-93BD-D26AD73D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0A32-0D82-4692-A7EC-07260C6C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F16C-1F45-47C0-80B8-8FDEED00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F153-7C5B-46AB-A39B-F9FF4747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BF66-51AC-49CE-8656-772D93E7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045F-6D51-4F8E-9708-49D27C3B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FD43-FA3A-4D26-AC19-766EE319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A372-A4E5-4743-AA44-8A270791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48CB-09E0-4A1C-A0DB-B6944F76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8C4A-79A3-4F93-84F0-DCA264A4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D9B-A9A1-4B23-A784-21C52938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2009-EA2B-4202-AA44-577CC062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ADC5E-06E5-41E4-8EDE-5DE0FA61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EF47-1A46-4E73-9CDE-E06403F4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7784-9D1D-41DB-90EB-DD3BE07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78780-F95E-4BBB-B473-0087200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465EF-C4D8-449A-A851-C94E7D45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E5B8-87A6-48AC-8E06-515889A7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C18D-5121-4CF5-833D-D3150CC0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D80E-5005-4733-ADE6-F0BE41CE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4CB8E-225C-4DB7-B47C-0532EAAF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DD5-B163-4BB9-AC78-584CE57F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DEC63-E279-4BCF-9F40-39D5DD68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0DBE-279C-454F-9E1A-8AEFC397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C97FB-4249-4EE2-8084-51991B45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EFCA-4C41-4506-8223-EF576D46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C1632-2CA9-45C1-99C4-2F8E91E0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7C025-14C6-4CA5-93B0-7CE0CA98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C42A4-DC13-4AB9-B5A8-20F84858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3E46A-C679-4DFE-A88A-816F1799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64AB-11E8-4B25-ADEC-614AD02B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F2582-F2A1-4611-A458-41C24580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B4F-B2D9-4623-8A51-8ECC4C9A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878A8-B797-4509-B18E-1FD296D6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03BCA-3538-4874-A691-56DCFEFD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AB14C-A39C-4C3B-889C-36499DF0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F2E6-8043-4095-B038-9A7DC751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3CFD5-D6E5-457D-8C81-3702CB56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6E9E-2E62-4877-A5CB-4AAC5026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FD1A-D92F-415E-9259-2AF9C43A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2405B-996F-4905-B681-F42DA6BB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69488-DF62-42C5-B844-EF48B8F4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39FD-744C-4B89-B3CA-3D3971F2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D57-735E-4162-BECA-A16790B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41F5-2F2B-40FC-9A3F-1869193F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D213-2F35-473A-8277-AF5DCE0D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0A388-B26C-4BCD-BE03-EB5B834F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079AA-90C1-4A20-8D09-A002FCDB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D16A4-905B-408E-8301-97F03A24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6BA46-149F-42D4-95DE-EC0301A0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E558-2A16-455D-9D97-7223A8AE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0C780-B0CD-48E5-9C06-A9CF3ECF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2924-B2C6-455D-8830-D914AA92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AF606-A65F-49A0-8928-E7234E03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168-BACA-434F-92D3-85F95DD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0E9A4-9645-4256-A345-36F4AA01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A9465-BE18-41CB-96E5-1C604744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1ABC7-9DEA-4F64-82E4-15CFF5A9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7B9B-5575-4E56-8819-26CA5360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9233-89EB-4A62-A47B-E3ACA83E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E8C-048E-4690-B253-5575BE0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af2">
              <a:alpha val="33000"/>
            </a:srgbClr>
          </a:solidFill>
          <a:ln cap="rnd" w="3240">
            <a:solidFill>
              <a:srgbClr val="dac2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5d5"/>
            </a:solidFill>
            <a:miter/>
          </a:ln>
          <a:effectLst>
            <a:outerShdw dist="12600" dir="5400000" blurRad="0" rotWithShape="0">
              <a:srgbClr val="b4a487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2356-7FF1-4795-B124-003C9997F191}" type="slidenum"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af2">
              <a:alpha val="33000"/>
            </a:srgbClr>
          </a:solidFill>
          <a:ln cap="rnd" w="3240">
            <a:solidFill>
              <a:srgbClr val="dac2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5d5"/>
            </a:solidFill>
            <a:miter/>
          </a:ln>
          <a:effectLst>
            <a:outerShdw dist="12600" dir="5400000" blurRad="0" rotWithShape="0">
              <a:srgbClr val="b4a487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82a0b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E17B-2DA5-490C-BDD3-DC9D9E92A148}" type="slidenum"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82a0b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D884-F949-425C-B295-F5AA59DE20E1}" type="slidenum"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F853-F78F-4BC3-9C78-FB03E69B5107}" type="slidenum"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3027-74AA-408E-9D1A-E762A1DCC9B9}" type="slidenum"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88A9-10DD-4B0A-AAC0-57824BF44730}" type="slidenum"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3d9a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d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a7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1391-5E8A-406A-B0FC-AD2B7D24A186}" type="slidenum">
              <a:rPr b="0" lang="sr-Latn-CS" sz="1200" spc="-1" strike="noStrike">
                <a:solidFill>
                  <a:srgbClr val="bca78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Kinetička teorija plazme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483229"/>
                </a:solidFill>
                <a:latin typeface="Gill Sans MT"/>
              </a:rPr>
              <a:t>Osnovni pojmovi, definicije i jednač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Osnovni pojmovi kinetičke teorije plazme </a:t>
            </a:r>
            <a:endParaRPr b="0" lang="en-US" sz="32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akroskopska brzina čestica vrste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usrednjena po ansamblu) u tački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x,y,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 u trenutk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inetička temperatu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5"/>
          <p:cNvGraphicFramePr/>
          <p:nvPr/>
        </p:nvGraphicFramePr>
        <p:xfrm>
          <a:off x="3306600" y="2678040"/>
          <a:ext cx="357516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6600" y="2678040"/>
                    <a:ext cx="35751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8"/>
          <p:cNvGraphicFramePr/>
          <p:nvPr/>
        </p:nvGraphicFramePr>
        <p:xfrm>
          <a:off x="2697120" y="4354560"/>
          <a:ext cx="508464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7120" y="4354560"/>
                    <a:ext cx="508464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Kinetičke jednačine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snovni zadatak kinetičke teorije je sastavljanje jednačina iz kojih bi se mogle odrediti funkcije raspodele  za pojedine vrste čestica posmatranog sistem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ve jednačine su poznate kao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kinetičke jednačin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i njihovo sastavljanje zahteva detaljnu analizu sudarnih proces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Postupak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 uočiti u šestodimenzionalnom faznom prostoru sa koordinatama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x,y,z,v</a:t>
            </a:r>
            <a:r>
              <a:rPr b="0" i="1" lang="sr-Latn-RS" sz="24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,v</a:t>
            </a:r>
            <a:r>
              <a:rPr b="0" i="1" lang="sr-Latn-RS" sz="2400" spc="-1" strike="noStrike" baseline="-25000">
                <a:solidFill>
                  <a:srgbClr val="000000"/>
                </a:solidFill>
                <a:latin typeface="Calibri"/>
              </a:rPr>
              <a:t>y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,v</a:t>
            </a:r>
            <a:r>
              <a:rPr b="0" i="1" lang="sr-Latn-RS" sz="24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neku konačnu zapremnu </a:t>
            </a:r>
            <a:r>
              <a:rPr b="0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(6)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graničenu zatvorenom površi </a:t>
            </a:r>
            <a:r>
              <a:rPr b="0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(5)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Ukupan broj faznih tačaka čestica vrste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u zapremini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3" name="Object 3"/>
          <p:cNvGraphicFramePr/>
          <p:nvPr/>
        </p:nvGraphicFramePr>
        <p:xfrm>
          <a:off x="3962520" y="5867280"/>
          <a:ext cx="2127240" cy="6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867280"/>
                    <a:ext cx="212724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7c5d50"/>
                </a:solidFill>
                <a:latin typeface="Gill Sans MT"/>
              </a:rPr>
              <a:t>Promena broja faznih tačaka u </a:t>
            </a:r>
            <a:r>
              <a:rPr b="0" lang="sr-Latn-RS" sz="4000" spc="-1" strike="noStrike">
                <a:solidFill>
                  <a:srgbClr val="7c5d50"/>
                </a:solidFill>
                <a:latin typeface="Symbol"/>
                <a:ea typeface="Symbol"/>
              </a:rPr>
              <a:t></a:t>
            </a:r>
            <a:r>
              <a:rPr b="0" lang="sr-Latn-RS" sz="4000" spc="-1" strike="noStrike" baseline="30000">
                <a:solidFill>
                  <a:srgbClr val="7c5d50"/>
                </a:solidFill>
                <a:latin typeface="Calibri"/>
              </a:rPr>
              <a:t>(6) </a:t>
            </a:r>
            <a:endParaRPr b="0" lang="en-US" sz="40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447560"/>
            <a:ext cx="818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roj faznih tačaka u zapremnu </a:t>
            </a:r>
            <a:r>
              <a:rPr b="0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(6)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može se menjati iz dva razloga: kroz graničnu površinu </a:t>
            </a:r>
            <a:r>
              <a:rPr b="0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(5)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fazne tačke čestica uočene vrste prolaze u oba smera usled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difuzionih proces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i neka fazna tačka može napustiti uočenu zapreminu </a:t>
            </a:r>
            <a:r>
              <a:rPr b="0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7" name="Picture 3" descr="Graphic1..tif"/>
          <p:cNvPicPr/>
          <p:nvPr/>
        </p:nvPicPr>
        <p:blipFill>
          <a:blip r:embed="rId1"/>
          <a:stretch/>
        </p:blipFill>
        <p:spPr>
          <a:xfrm>
            <a:off x="3276720" y="3043080"/>
            <a:ext cx="2971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7c5d50"/>
                </a:solidFill>
                <a:latin typeface="Gill Sans MT"/>
              </a:rPr>
              <a:t>Uticaj elastičnih sudara na broj faznih tačaka u </a:t>
            </a:r>
            <a:r>
              <a:rPr b="0" lang="sr-Latn-RS" sz="3600" spc="-1" strike="noStrike">
                <a:solidFill>
                  <a:srgbClr val="7c5d50"/>
                </a:solidFill>
                <a:latin typeface="Symbol"/>
                <a:ea typeface="Symbol"/>
              </a:rPr>
              <a:t></a:t>
            </a:r>
            <a:r>
              <a:rPr b="0" lang="sr-Latn-RS" sz="3600" spc="-1" strike="noStrike" baseline="30000">
                <a:solidFill>
                  <a:srgbClr val="7c5d50"/>
                </a:solidFill>
                <a:latin typeface="Calibri"/>
              </a:rPr>
              <a:t>(6)</a:t>
            </a:r>
            <a:endParaRPr b="0" lang="en-US" sz="36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90720" y="1447560"/>
            <a:ext cx="794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 druge strane, neka fazna tačka može napustiti uočenu faznu zapreminu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li u nju dospeti a da pritom ne prođe kroz graničnu površ </a:t>
            </a:r>
            <a:r>
              <a:rPr b="0" lang="sr-Latn-R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r-Latn-RS" sz="2000" spc="-1" strike="noStrike" baseline="30000">
                <a:solidFill>
                  <a:srgbClr val="000000"/>
                </a:solidFill>
                <a:latin typeface="Calibri"/>
              </a:rPr>
              <a:t>(5)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i to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usled sudara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Konkretno, ako je u pitanju elastični sudar, brzina čestice se skokovito menja te njena fazna tačka koja se neposredno pre sudara nalazila u P preskače u aktu sudara u Q (pri čemu prostorne koordinate ostaju nepormenjene) tj. linija PQ je paralena v-osi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" name="Picture 3" descr="Graphic1..tif"/>
          <p:cNvPicPr/>
          <p:nvPr/>
        </p:nvPicPr>
        <p:blipFill>
          <a:blip r:embed="rId1"/>
          <a:stretch/>
        </p:blipFill>
        <p:spPr>
          <a:xfrm>
            <a:off x="3581280" y="3809880"/>
            <a:ext cx="22860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7c5d50"/>
                </a:solidFill>
                <a:latin typeface="Gill Sans MT"/>
              </a:rPr>
              <a:t>Uticaj neelastičnih sudara na broj faznih tačaka u </a:t>
            </a:r>
            <a:r>
              <a:rPr b="0" lang="sr-Latn-RS" sz="3600" spc="-1" strike="noStrike">
                <a:solidFill>
                  <a:srgbClr val="7c5d50"/>
                </a:solidFill>
                <a:latin typeface="Symbol"/>
                <a:ea typeface="Symbol"/>
              </a:rPr>
              <a:t></a:t>
            </a:r>
            <a:r>
              <a:rPr b="0" lang="sr-Latn-RS" sz="3600" spc="-1" strike="noStrike" baseline="30000">
                <a:solidFill>
                  <a:srgbClr val="7c5d50"/>
                </a:solidFill>
                <a:latin typeface="Calibri"/>
              </a:rPr>
              <a:t>(6)</a:t>
            </a:r>
            <a:endParaRPr b="0" lang="en-US" sz="36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447560"/>
            <a:ext cx="802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Ako su u pitanju neelastični sudari dolazi do nestajanja faznih tačaka bar nekih (ili svih) učesnika sudara i pojavljivanja faznih tačaka produkata sudara, pri čemu sve ove fazne tačne ne moraju ostati u </a:t>
            </a:r>
            <a:r>
              <a:rPr b="0" lang="sr-Latn-R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r-Latn-RS" sz="2000" spc="-1" strike="noStrike" baseline="30000">
                <a:solidFill>
                  <a:srgbClr val="000000"/>
                </a:solidFill>
                <a:latin typeface="Calibri"/>
              </a:rPr>
              <a:t>(6)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primer, jedan neutralni atom i srazmerno brzi elektron, čije su fazne tačke neposredno pre sudara nalazile u 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Q’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respektivno (prostorne koordinate su im bile is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mogu po shemi jonizacionog sudara dati jedan jon sa faznom tačkom u R i dva elektrona sa faznim tačkama u S i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3" name="Picture 3" descr="Graphic1..tif"/>
          <p:cNvPicPr/>
          <p:nvPr/>
        </p:nvPicPr>
        <p:blipFill>
          <a:blip r:embed="rId1"/>
          <a:stretch/>
        </p:blipFill>
        <p:spPr>
          <a:xfrm>
            <a:off x="3841920" y="3886200"/>
            <a:ext cx="21650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Kolizioni integral </a:t>
            </a:r>
            <a:r>
              <a:rPr b="0" i="1" lang="sr-Latn-RS" sz="4300" spc="-1" strike="noStrike">
                <a:solidFill>
                  <a:srgbClr val="7c5d50"/>
                </a:solidFill>
                <a:latin typeface="Gill Sans MT"/>
              </a:rPr>
              <a:t>I</a:t>
            </a:r>
            <a:r>
              <a:rPr b="0" lang="sr-Latn-RS" sz="4300" spc="-1" strike="noStrike" baseline="-25000">
                <a:solidFill>
                  <a:srgbClr val="7c5d50"/>
                </a:solidFill>
                <a:latin typeface="Symbol"/>
                <a:ea typeface="Symbol"/>
              </a:rPr>
              <a:t></a:t>
            </a: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(</a:t>
            </a:r>
            <a:r>
              <a:rPr b="0" i="1" lang="sr-Latn-RS" sz="4300" spc="-1" strike="noStrike">
                <a:solidFill>
                  <a:srgbClr val="7c5d50"/>
                </a:solidFill>
                <a:latin typeface="Gill Sans MT"/>
              </a:rPr>
              <a:t>r,v,t</a:t>
            </a: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)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1760" y="144756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Efektivan broj faznih tačaka čestica vrste </a:t>
            </a:r>
            <a:r>
              <a:rPr b="0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 koje usled sudara dospeju u jedinici zapremine faznog prostora oko tačke (x</a:t>
            </a:r>
            <a:r>
              <a:rPr b="0" i="1" lang="sr-Latn-RS" sz="2400" spc="-1" strike="noStrike">
                <a:solidFill>
                  <a:srgbClr val="000000"/>
                </a:solidFill>
                <a:latin typeface="Gill Sans MT"/>
              </a:rPr>
              <a:t>,y,z,v</a:t>
            </a:r>
            <a:r>
              <a:rPr b="0" i="1" lang="sr-Latn-RS" sz="2400" spc="-1" strike="noStrike" baseline="-25000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sr-Latn-RS" sz="2400" spc="-1" strike="noStrike">
                <a:solidFill>
                  <a:srgbClr val="000000"/>
                </a:solidFill>
                <a:latin typeface="Gill Sans MT"/>
              </a:rPr>
              <a:t>,v</a:t>
            </a:r>
            <a:r>
              <a:rPr b="0" i="1" lang="sr-Latn-RS" sz="2400" spc="-1" strike="noStrike" baseline="-25000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sr-Latn-RS" sz="2400" spc="-1" strike="noStrike">
                <a:solidFill>
                  <a:srgbClr val="000000"/>
                </a:solidFill>
                <a:latin typeface="Gill Sans MT"/>
              </a:rPr>
              <a:t>,v</a:t>
            </a:r>
            <a:r>
              <a:rPr b="0" i="1" lang="sr-Latn-RS" sz="2400" spc="-1" strike="noStrike" baseline="-25000">
                <a:solidFill>
                  <a:srgbClr val="000000"/>
                </a:solidFill>
                <a:latin typeface="Gill Sans MT"/>
              </a:rPr>
              <a:t>z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) zu jednici vremena u momentu </a:t>
            </a:r>
            <a:r>
              <a:rPr b="0" i="1" lang="sr-Latn-RS" sz="2400" spc="-1" strike="noStrike">
                <a:solidFill>
                  <a:srgbClr val="000000"/>
                </a:solidFill>
                <a:latin typeface="Gill Sans MT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Ovaj efektivanm broj će predatavljati razliku između broja faznih tačaka koje uđu u posmatranu zapreminu i koje iz nje izađ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Ukupan broj faznih tačaka koje se u jednici vremena nađu u </a:t>
            </a:r>
            <a:r>
              <a:rPr b="0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(6)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usled sudara dat je integral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96" name="Object 5"/>
          <p:cNvGraphicFramePr/>
          <p:nvPr/>
        </p:nvGraphicFramePr>
        <p:xfrm>
          <a:off x="3886200" y="4738680"/>
          <a:ext cx="21049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738680"/>
                    <a:ext cx="21049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9"/>
          <p:cNvSpPr/>
          <p:nvPr/>
        </p:nvSpPr>
        <p:spPr>
          <a:xfrm>
            <a:off x="3124080" y="5410080"/>
            <a:ext cx="33530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Kinetičke jednačine</a:t>
            </a:r>
            <a:endParaRPr b="0" lang="en-US" sz="32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Ukupan šestodimenzionalni fluks usled difuzionih proces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Broj faznih tačaka koji se u jedinici vremena nađu u</a:t>
            </a:r>
            <a:r>
              <a:rPr b="0" lang="sr-Latn-R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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Calibri"/>
              </a:rPr>
              <a:t>(6)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usled suda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Uslov konstantnosti broja faznih tačak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1"/>
          <p:cNvGraphicFramePr/>
          <p:nvPr/>
        </p:nvGraphicFramePr>
        <p:xfrm>
          <a:off x="3276720" y="5486400"/>
          <a:ext cx="297180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86400"/>
                    <a:ext cx="29718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4"/>
          <p:cNvGraphicFramePr/>
          <p:nvPr/>
        </p:nvGraphicFramePr>
        <p:xfrm>
          <a:off x="3429000" y="2133720"/>
          <a:ext cx="34257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133720"/>
                    <a:ext cx="34257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5"/>
          <p:cNvGraphicFramePr/>
          <p:nvPr/>
        </p:nvGraphicFramePr>
        <p:xfrm>
          <a:off x="3886200" y="3352680"/>
          <a:ext cx="2104920" cy="6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352680"/>
                    <a:ext cx="21049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6"/>
          <p:cNvGraphicFramePr/>
          <p:nvPr/>
        </p:nvGraphicFramePr>
        <p:xfrm>
          <a:off x="2057400" y="4572000"/>
          <a:ext cx="589284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4572000"/>
                    <a:ext cx="58928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Gill Sans MT"/>
              </a:rPr>
              <a:t>dodatno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1192320" y="1417680"/>
            <a:ext cx="77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7c5d50"/>
                </a:solidFill>
                <a:latin typeface="Blackadder ITC"/>
              </a:rPr>
              <a:t>Analiza kinetičke jednačine</a:t>
            </a:r>
            <a:endParaRPr b="0" lang="en-US" sz="36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Kolizioni integral je obično razlika dva člna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psorpcioni č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emisioni č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14" name="Object 1"/>
          <p:cNvGraphicFramePr/>
          <p:nvPr/>
        </p:nvGraphicFramePr>
        <p:xfrm>
          <a:off x="1905120" y="2895480"/>
          <a:ext cx="2824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2824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16" name="Straight Arrow Connector 10"/>
          <p:cNvCxnSpPr/>
          <p:nvPr/>
        </p:nvCxnSpPr>
        <p:spPr>
          <a:xfrm flipV="1">
            <a:off x="4266000" y="3504960"/>
            <a:ext cx="229320" cy="1372320"/>
          </a:xfrm>
          <a:prstGeom prst="straightConnector1">
            <a:avLst/>
          </a:prstGeom>
          <a:ln w="9360">
            <a:solidFill>
              <a:srgbClr val="7291aa"/>
            </a:solidFill>
            <a:miter/>
            <a:tailEnd len="med" type="arrow" w="med"/>
          </a:ln>
        </p:spPr>
      </p:cxnSp>
      <p:sp>
        <p:nvSpPr>
          <p:cNvPr id="417" name="TextBox 11"/>
          <p:cNvSpPr/>
          <p:nvPr/>
        </p:nvSpPr>
        <p:spPr>
          <a:xfrm>
            <a:off x="3429000" y="50292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klolizioni integ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Straight Arrow Connector 13"/>
          <p:cNvCxnSpPr/>
          <p:nvPr/>
        </p:nvCxnSpPr>
        <p:spPr>
          <a:xfrm>
            <a:off x="2971800" y="2057400"/>
            <a:ext cx="534240" cy="838800"/>
          </a:xfrm>
          <a:prstGeom prst="straightConnector1">
            <a:avLst/>
          </a:prstGeom>
          <a:ln w="9360">
            <a:solidFill>
              <a:srgbClr val="7291aa"/>
            </a:solidFill>
            <a:miter/>
            <a:tailEnd len="med" type="arrow" w="med"/>
          </a:ln>
        </p:spPr>
      </p:cxnSp>
      <p:sp>
        <p:nvSpPr>
          <p:cNvPr id="419" name="TextBox 15"/>
          <p:cNvSpPr/>
          <p:nvPr/>
        </p:nvSpPr>
        <p:spPr>
          <a:xfrm>
            <a:off x="1905120" y="16765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Ukupna srednja sila koja deluje na jednu česticu vrste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4"/>
          <p:cNvGraphicFramePr/>
          <p:nvPr/>
        </p:nvGraphicFramePr>
        <p:xfrm>
          <a:off x="6400800" y="2085840"/>
          <a:ext cx="141300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85840"/>
                    <a:ext cx="14130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22" name="Straight Arrow Connector 18"/>
          <p:cNvCxnSpPr/>
          <p:nvPr/>
        </p:nvCxnSpPr>
        <p:spPr>
          <a:xfrm flipV="1">
            <a:off x="6553080" y="2437920"/>
            <a:ext cx="457920" cy="457920"/>
          </a:xfrm>
          <a:prstGeom prst="straightConnector1">
            <a:avLst/>
          </a:prstGeom>
          <a:ln w="9360">
            <a:solidFill>
              <a:srgbClr val="7291aa"/>
            </a:solidFill>
            <a:miter/>
            <a:tailEnd len="med" type="arrow" w="med"/>
          </a:ln>
        </p:spPr>
      </p:cxnSp>
      <p:cxnSp>
        <p:nvCxnSpPr>
          <p:cNvPr id="423" name="Straight Arrow Connector 20"/>
          <p:cNvCxnSpPr/>
          <p:nvPr/>
        </p:nvCxnSpPr>
        <p:spPr>
          <a:xfrm flipV="1">
            <a:off x="6553080" y="2437560"/>
            <a:ext cx="915120" cy="839160"/>
          </a:xfrm>
          <a:prstGeom prst="straightConnector1">
            <a:avLst/>
          </a:prstGeom>
          <a:ln w="9360">
            <a:solidFill>
              <a:srgbClr val="7291a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diskusija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Ovo je matematički oblik koji mora imati svaka kinetička jednačin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Veličina </a:t>
            </a:r>
            <a:r>
              <a:rPr b="0" i="1" lang="sr-Latn-R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 se naziva </a:t>
            </a:r>
            <a:r>
              <a:rPr b="0" i="1" lang="sr-Latn-RS" sz="2400" spc="-1" strike="noStrike">
                <a:solidFill>
                  <a:srgbClr val="000000"/>
                </a:solidFill>
                <a:latin typeface="Gill Sans MT"/>
              </a:rPr>
              <a:t>kolizioni integral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 i njegova konkretizacija zahteva detaljnu analizu svih kolizionih procesa u plazmi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26" name="Object 1"/>
          <p:cNvGraphicFramePr/>
          <p:nvPr/>
        </p:nvGraphicFramePr>
        <p:xfrm>
          <a:off x="3352680" y="2362320"/>
          <a:ext cx="297180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29718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70c0"/>
                </a:solidFill>
                <a:latin typeface="Arial"/>
                <a:ea typeface="Arial"/>
              </a:rPr>
              <a:t>Obnovimo neke osnovne pojmove iz statističke fizike</a:t>
            </a:r>
            <a:endParaRPr b="0" lang="en-US" sz="32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371240"/>
            <a:ext cx="7499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Fazni prostor il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prostor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azna tačk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azna trajektori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Hamilton-ove jendačine i Hamilton-ova funkcij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Liouville-ova teorem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1981080" y="4038480"/>
          <a:ext cx="175284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175284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5"/>
          <p:cNvGraphicFramePr/>
          <p:nvPr/>
        </p:nvGraphicFramePr>
        <p:xfrm>
          <a:off x="5334120" y="4800600"/>
          <a:ext cx="3398760" cy="3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800600"/>
                    <a:ext cx="339876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7030a0"/>
                </a:solidFill>
                <a:latin typeface="Imprint MT Shadow"/>
                <a:ea typeface="Arial"/>
              </a:rPr>
              <a:t>Veza između kinetičkih i hidrodinamičkih jednačina</a:t>
            </a:r>
            <a:endParaRPr b="0" lang="en-US" sz="28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Hidrodinamičke jednačine za plazmu se mogu dobiti iz kinetičkih jednačin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Primer: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liti jednačinu                                        po svim brzinama za čestice vrste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(hidrodinamička gustina posmatranih čestica je                    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Promena gustine posmatranih čestica zavisi od detalja kolizionih procesa, sadržanih u kolizionom integralu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30" name="Object 1"/>
          <p:cNvGraphicFramePr/>
          <p:nvPr/>
        </p:nvGraphicFramePr>
        <p:xfrm>
          <a:off x="4495680" y="1981080"/>
          <a:ext cx="205740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20574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3"/>
          <p:cNvGraphicFramePr/>
          <p:nvPr/>
        </p:nvGraphicFramePr>
        <p:xfrm>
          <a:off x="6324480" y="2666880"/>
          <a:ext cx="865440" cy="2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666880"/>
                    <a:ext cx="8654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4"/>
          <p:cNvGraphicFramePr/>
          <p:nvPr/>
        </p:nvGraphicFramePr>
        <p:xfrm>
          <a:off x="3911760" y="4375080"/>
          <a:ext cx="165096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11760" y="4375080"/>
                    <a:ext cx="16509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c5d50"/>
                </a:solidFill>
                <a:latin typeface="Arial"/>
                <a:ea typeface="Arial"/>
              </a:rPr>
              <a:t>Neki konkretni oblici funkcija rspodele kod čestica plazme</a:t>
            </a:r>
            <a:endParaRPr b="0" lang="en-US" sz="28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Maxwell-ova funkcija (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lokalna termodinamička ravnoteža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Potpuna termodinamička ravnoteža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U plazmi se dosta brzo uspostavlja stanje  delimične termodinamičke ravnoteže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Mawell-ova raspodela sa anizotropijom temperature (delimična termodinamička ravnoteža)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38" name="Object 1"/>
          <p:cNvGraphicFramePr/>
          <p:nvPr/>
        </p:nvGraphicFramePr>
        <p:xfrm>
          <a:off x="2030400" y="1828800"/>
          <a:ext cx="54086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1828800"/>
                    <a:ext cx="54086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3"/>
          <p:cNvGraphicFramePr/>
          <p:nvPr/>
        </p:nvGraphicFramePr>
        <p:xfrm>
          <a:off x="3059280" y="3141720"/>
          <a:ext cx="32526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141720"/>
                    <a:ext cx="3252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4"/>
          <p:cNvGraphicFramePr/>
          <p:nvPr/>
        </p:nvGraphicFramePr>
        <p:xfrm>
          <a:off x="3189240" y="4465800"/>
          <a:ext cx="32544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9240" y="4465800"/>
                    <a:ext cx="3254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5"/>
          <p:cNvGraphicFramePr/>
          <p:nvPr/>
        </p:nvGraphicFramePr>
        <p:xfrm>
          <a:off x="2733840" y="5754600"/>
          <a:ext cx="4690800" cy="7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33840" y="5754600"/>
                    <a:ext cx="46908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Fazni prostor</a:t>
            </a:r>
            <a:r>
              <a:rPr b="0" lang="sr-RS" sz="4300" spc="-1" strike="noStrike">
                <a:solidFill>
                  <a:srgbClr val="7c5d50"/>
                </a:solidFill>
                <a:latin typeface="Corbel"/>
              </a:rPr>
              <a:t> </a:t>
            </a: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i fazna tačka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1447560"/>
            <a:ext cx="794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Ako posmatramo sistem koji je sačinjen od N čestica, onda u ovom sistemu dinamičko stanje proizvolje 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-te čestice (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=1,2,3,...,N) je određeno sa skupom generalisanih koordinata </a:t>
            </a:r>
            <a:r>
              <a:rPr b="1" i="1" lang="sr-Latn-RS" sz="20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=(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ix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,q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iy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, q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iz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) i njima pripadajućim generalisanim impulsima </a:t>
            </a:r>
            <a:r>
              <a:rPr b="1" i="1" lang="sr-Latn-RS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=(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ix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,p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iy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,p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iz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Ceo sistem se nalazi u dinamičkom stanju koje je određeno skupom generalisanih impulsa i generalisanih koordinata (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kanonske promenljive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ctr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i="1" lang="sr-Latn-RS" sz="2000" spc="-1" strike="noStrike">
                <a:solidFill>
                  <a:srgbClr val="000000"/>
                </a:solidFill>
                <a:latin typeface="Gill Sans MT"/>
              </a:rPr>
              <a:t>p,q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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i="1" lang="sr-Latn-RS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i="1" lang="sr-Latn-RS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, ...</a:t>
            </a:r>
            <a:r>
              <a:rPr b="1" i="1" lang="sr-Latn-RS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i="1" lang="sr-Latn-RS" sz="20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i="1" lang="sr-Latn-RS" sz="20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, ...,</a:t>
            </a:r>
            <a:r>
              <a:rPr b="1" i="1" lang="sr-Latn-RS" sz="20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i="1" lang="sr-Latn-RS" sz="20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tanje celog sistema se može prikazati tačkom u 6N-dimenzionom prostoru koji je formiran od 3N generalisanih koordinata i 3N generalisanih impuls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Ovako definisani prostor se zove </a:t>
            </a:r>
            <a:r>
              <a:rPr b="0" i="1" lang="sr-Latn-RS" sz="2000" spc="-1" strike="noStrike" u="sng">
                <a:solidFill>
                  <a:srgbClr val="000000"/>
                </a:solidFill>
                <a:uFillTx/>
                <a:latin typeface="Gill Sans MT"/>
              </a:rPr>
              <a:t>fazni prostor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ili </a:t>
            </a:r>
            <a:r>
              <a:rPr b="0" lang="sr-RS" sz="2000" spc="-1" strike="noStrike">
                <a:solidFill>
                  <a:srgbClr val="000000"/>
                </a:solidFill>
                <a:latin typeface="Corbel"/>
              </a:rPr>
              <a:t>Г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 prostor, a tačke koje u njemu reprezentuju pojedina dinamička stanja sistema se nazivaju </a:t>
            </a:r>
            <a:r>
              <a:rPr b="0" i="1" lang="sr-Latn-RS" sz="2000" spc="-1" strike="noStrike" u="sng">
                <a:solidFill>
                  <a:srgbClr val="000000"/>
                </a:solidFill>
                <a:uFillTx/>
                <a:latin typeface="Gill Sans MT"/>
              </a:rPr>
              <a:t>fazne tačk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Fazna trajektorija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90720" y="1447560"/>
            <a:ext cx="794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Dinamičko satnje sistema se menja sa vremenom, te će i fazna tačka tokom vremena menjati svoj položaj. Putanja koju tokom vremena obrazuje fazna tračka predstavlja liniju u 6N-dimenzionom faznom prostoru i njena jednačina odgovara zakonu evolucije dinamičkog stanja sistem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Jednačina fazne trajektorij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(skup parametarskih jednačina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1" i="1" lang="sr-Latn-RS" sz="2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sr-Latn-RS" sz="28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sr-Latn-RS" sz="2800" spc="-1" strike="noStrike">
                <a:solidFill>
                  <a:srgbClr val="000000"/>
                </a:solidFill>
                <a:latin typeface="Gill Sans MT"/>
              </a:rPr>
              <a:t>(t), </a:t>
            </a:r>
            <a:r>
              <a:rPr b="1" i="1" lang="sr-Latn-RS" sz="2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i="1" lang="sr-Latn-RS" sz="28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sr-Latn-RS" sz="2800" spc="-1" strike="noStrike">
                <a:solidFill>
                  <a:srgbClr val="000000"/>
                </a:solidFill>
                <a:latin typeface="Gill Sans MT"/>
              </a:rPr>
              <a:t>(t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}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, i=1,2,3,...,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7c5d50"/>
                </a:solidFill>
                <a:latin typeface="Gill Sans MT"/>
              </a:rPr>
              <a:t>Hamiltonove jednačine i Hamiltonova funkcija</a:t>
            </a:r>
            <a:endParaRPr b="0" lang="en-US" sz="39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Koonkretan oblik zavisnosti generalisanih koordinata i i generalisanih impulsa od vremena možemo dobiti rešavanjem sistema Hamiltonovih jednač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gde je                 Hamiltonova funkcij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Pod dosta opštim uslovima Hamiltonova funkcija predstavlja ukupnu energiju sistem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2" name="Object 5"/>
          <p:cNvGraphicFramePr/>
          <p:nvPr/>
        </p:nvGraphicFramePr>
        <p:xfrm>
          <a:off x="3119400" y="2719440"/>
          <a:ext cx="12096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9400" y="2719440"/>
                    <a:ext cx="12096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5"/>
          <p:cNvGraphicFramePr/>
          <p:nvPr/>
        </p:nvGraphicFramePr>
        <p:xfrm>
          <a:off x="4729320" y="2725560"/>
          <a:ext cx="139680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9320" y="2725560"/>
                    <a:ext cx="13968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4"/>
          <p:cNvGraphicFramePr/>
          <p:nvPr/>
        </p:nvGraphicFramePr>
        <p:xfrm>
          <a:off x="2789280" y="3511440"/>
          <a:ext cx="1209600" cy="4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9280" y="3511440"/>
                    <a:ext cx="12096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5"/>
          <p:cNvGraphicFramePr/>
          <p:nvPr/>
        </p:nvGraphicFramePr>
        <p:xfrm>
          <a:off x="3276720" y="4932360"/>
          <a:ext cx="29318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4932360"/>
                    <a:ext cx="293184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Funkcija raspodele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536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U slučaju sistema sa velikim brojem čestica nije moguće tačno odrediti mikrostanje u kome se posmatrani sistem nalazi, pa se pokazalo pogodnim da umesto ekzaktnog nalaženja mikrostanja u nekom trenutku vremena odredi verovatnoća nalaženja sistema u svakom od mogućih mikrostanj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Raspodela verovatnoće po mikrostanjima u nekom vremenskom trenutku 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 izražavamo preko funkcije raspodele 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sr-Latn-RS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sr-Latn-RS" sz="20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i="1" lang="sr-Latn-RS" sz="20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) koja mora da zadovoljava uslov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a sumiranja možemo preći na integraciju po celom faznom prostor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86200" y="4114800"/>
          <a:ext cx="18082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1808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4038480" y="5435640"/>
          <a:ext cx="17798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435640"/>
                    <a:ext cx="177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7c5d50"/>
                </a:solidFill>
                <a:latin typeface="Gill Sans MT"/>
              </a:rPr>
              <a:t>Liouvile-ova teorema</a:t>
            </a:r>
            <a:endParaRPr b="0" lang="en-US" sz="43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142640" y="1447560"/>
            <a:ext cx="779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Funkcija raspodele se ne menja duž fazne trajektorije, pa u tom smislu predstavlja integral kretanj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Posledica: zapremina oblasti faznog prostora koju zauzima određeni skup faznih tačaka tokom evolicije se ne menja, tj. tokom vremena može se menjati samo oblik oblasti ali ne i njena zapremi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8" name="Object 5"/>
          <p:cNvGraphicFramePr/>
          <p:nvPr/>
        </p:nvGraphicFramePr>
        <p:xfrm>
          <a:off x="3809880" y="2743200"/>
          <a:ext cx="198144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43200"/>
                    <a:ext cx="19814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7"/>
          <p:cNvGraphicFramePr/>
          <p:nvPr/>
        </p:nvGraphicFramePr>
        <p:xfrm>
          <a:off x="4151160" y="3581280"/>
          <a:ext cx="10623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1160" y="3581280"/>
                    <a:ext cx="1062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4191120" y="3581280"/>
            <a:ext cx="1143000" cy="914400"/>
          </a:xfrm>
          <a:prstGeom prst="rect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Kinetička teorija plazme</a:t>
            </a:r>
            <a:endParaRPr b="0" lang="en-US" sz="36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66320" y="1295280"/>
            <a:ext cx="7867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Nije specifična samo za plazmu, već predstavlja jedna opšti način opisivanja sistema sa velikim brojem čestic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Zasniva se na integralima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Gill Sans MT"/>
              </a:rPr>
              <a:t>Liouville-ove jednačine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Osnovni zadatak je da deduktivnim pristupom, polazeći od poznatih zakonitosti dinamičkog ponašanja velikog broja mikroobjekata u kombinaciji sa zakonima verovatnoće, teorijski opiše makroskopsko ponašanje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Gill Sans MT"/>
              </a:rPr>
              <a:t>fizičkog sistem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Gill Sans MT"/>
              </a:rPr>
              <a:t>sa velikim brojem čestica -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Gill Sans MT"/>
              </a:rPr>
              <a:t>plaz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55" name="Object 5"/>
          <p:cNvGraphicFramePr/>
          <p:nvPr/>
        </p:nvGraphicFramePr>
        <p:xfrm>
          <a:off x="3886200" y="2743200"/>
          <a:ext cx="198108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743200"/>
                    <a:ext cx="19810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7"/>
          <p:cNvGraphicFramePr/>
          <p:nvPr/>
        </p:nvGraphicFramePr>
        <p:xfrm>
          <a:off x="4227480" y="3581280"/>
          <a:ext cx="1062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27480" y="3581280"/>
                    <a:ext cx="1062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Osnovni pojmovi kinetičke teorije plazme </a:t>
            </a:r>
            <a:endParaRPr b="0" lang="en-US" sz="3200" spc="-1" strike="noStrike">
              <a:solidFill>
                <a:srgbClr val="7c5d5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90360" y="1371240"/>
            <a:ext cx="749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unkcija raspode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dstavlja broj čestica vrs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čije fazne tačke leže u elementu zapremine jednočestičnog faznog prostor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t=dxdydzd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 okolini date tačke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x,y,z,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 u trenutku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eposredno zaključujem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1"/>
          <p:cNvGraphicFramePr/>
          <p:nvPr/>
        </p:nvGraphicFramePr>
        <p:xfrm>
          <a:off x="4343400" y="1828800"/>
          <a:ext cx="124920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12492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3"/>
          <p:cNvGraphicFramePr/>
          <p:nvPr/>
        </p:nvGraphicFramePr>
        <p:xfrm>
          <a:off x="2211480" y="2286000"/>
          <a:ext cx="574020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1480" y="2286000"/>
                    <a:ext cx="5740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5"/>
          <p:cNvGraphicFramePr/>
          <p:nvPr/>
        </p:nvGraphicFramePr>
        <p:xfrm>
          <a:off x="2971800" y="4876920"/>
          <a:ext cx="4233960" cy="6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876920"/>
                    <a:ext cx="42339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3"/>
          <p:cNvGraphicFramePr/>
          <p:nvPr/>
        </p:nvGraphicFramePr>
        <p:xfrm>
          <a:off x="3505320" y="5715000"/>
          <a:ext cx="274320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5715000"/>
                    <a:ext cx="2743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8:25:55Z</dcterms:created>
  <dc:creator>Kovac</dc:creator>
  <dc:description/>
  <dc:language>en-US</dc:language>
  <cp:lastModifiedBy>Milan Kovačević</cp:lastModifiedBy>
  <dcterms:modified xsi:type="dcterms:W3CDTF">2024-04-08T07:04:37Z</dcterms:modified>
  <cp:revision>65</cp:revision>
  <dc:subject/>
  <dc:title>Kinetička teorija plazme</dc:title>
</cp:coreProperties>
</file>